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9350B-1949-47D5-A27E-40A3F60B02C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BC3DCD-940A-4D8E-AB92-30BEBAF0167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7D8B1-7B47-4793-BB28-F80518526A3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246E46-B30D-4881-9ED2-5937E1F9D19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1FCFA9-D265-4049-907A-E69AF461EF0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57FD7-D8B7-402B-928A-F404AD3D55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2F50B-304E-41CB-90D1-958600DA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3F41B-DBD8-4866-9CE2-8EA8DA36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5E4D2-63F4-4485-8329-A3A540CB32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6F250-15D8-40CE-8499-E35C7A8D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D8CAF-6EBB-4C2A-B3DE-26B25DC4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9A734-8C95-4BB4-8EAB-A65657C3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E5C4C-2E60-4EE5-9C42-7758C92BA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A832F-D263-4A0A-9E9D-7003DB2BD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A15E0-96EB-4758-BF10-247F402E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2BE77-D796-47E9-B553-340FEFED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40EF4-D2EA-4F90-82CA-CECA1B3D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BE9B50D-A984-40E9-B370-AAA0D4348043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estructura de la Tier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1332000" y="26668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LA DINÁMICA DE LA GEOSF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dinámica de la geosf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684360" y="1197000"/>
            <a:ext cx="795636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calor interno de la Tierra, llamado energía geotérmica, aumenta con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profundidad y es el motor de la dinámica interna de la geosfe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os desplazamientos se denominan corrientes de convec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826920" y="6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La dinámica de la geosf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2"/>
          <a:stretch/>
        </p:blipFill>
        <p:spPr>
          <a:xfrm>
            <a:off x="3348000" y="2340000"/>
            <a:ext cx="2879640" cy="39592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9"/>
          <p:cNvSpPr/>
          <p:nvPr/>
        </p:nvSpPr>
        <p:spPr>
          <a:xfrm>
            <a:off x="755640" y="3933720"/>
            <a:ext cx="252108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intenso calor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l manto profundo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ace que las rocas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hagan menos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nsas y asciendan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acia la superfici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6659640" y="2637000"/>
            <a:ext cx="2484360" cy="24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 acercarse al manto superior, las rocas se enfrían y se hacen más densas, volviendo a hundirse hacia zonas más profundas, donde vuelven a calentarse y ascend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11"/>
          <p:cNvSpPr/>
          <p:nvPr/>
        </p:nvSpPr>
        <p:spPr>
          <a:xfrm>
            <a:off x="2660760" y="4826160"/>
            <a:ext cx="1838160" cy="145800"/>
          </a:xfrm>
          <a:prstGeom prst="rightArrow">
            <a:avLst>
              <a:gd name="adj1" fmla="val 34648"/>
              <a:gd name="adj2" fmla="val 132319"/>
            </a:avLst>
          </a:prstGeom>
          <a:solidFill>
            <a:srgbClr val="ff950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12"/>
          <p:cNvSpPr/>
          <p:nvPr/>
        </p:nvSpPr>
        <p:spPr>
          <a:xfrm rot="10800000">
            <a:off x="4856040" y="3132000"/>
            <a:ext cx="1627200" cy="146160"/>
          </a:xfrm>
          <a:prstGeom prst="rightArrow">
            <a:avLst>
              <a:gd name="adj1" fmla="val 38093"/>
              <a:gd name="adj2" fmla="val 140554"/>
            </a:avLst>
          </a:prstGeom>
          <a:solidFill>
            <a:srgbClr val="c5000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13 CuadroTexto"/>
          <p:cNvSpPr/>
          <p:nvPr/>
        </p:nvSpPr>
        <p:spPr>
          <a:xfrm>
            <a:off x="324000" y="4005360"/>
            <a:ext cx="3603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14 CuadroTexto"/>
          <p:cNvSpPr/>
          <p:nvPr/>
        </p:nvSpPr>
        <p:spPr>
          <a:xfrm>
            <a:off x="6227640" y="2708280"/>
            <a:ext cx="3603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Ana</cp:lastModifiedBy>
  <dcterms:modified xsi:type="dcterms:W3CDTF">2011-07-21T10:23:16Z</dcterms:modified>
  <cp:revision>44</cp:revision>
  <dc:subject/>
  <dc:title>Diapositiva 1</dc:title>
</cp:coreProperties>
</file>